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Chimes.wav" ContentType="audio/x-wav"/>
  <Override PartName="/ppt/media/image8.png" ContentType="image/png"/>
  <Override PartName="/ppt/media/Laser.wav" ContentType="audio/x-wav"/>
  <Override PartName="/ppt/media/image9.wmf" ContentType="image/x-wmf"/>
  <Override PartName="/ppt/media/image7.png" ContentType="image/png"/>
  <Override PartName="/ppt/media/image1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image12.wmf" ContentType="image/x-wmf"/>
  <Override PartName="/ppt/media/GunShot.wav" ContentType="audio/x-wav"/>
  <Override PartName="/ppt/media/image6.png" ContentType="image/png"/>
  <Override PartName="/ppt/media/image10.wmf" ContentType="image/x-wmf"/>
  <Override PartName="/ppt/media/image5.png" ContentType="image/png"/>
  <Override PartName="/ppt/media/Explode.wav" ContentType="audio/x-wav"/>
  <Override PartName="/ppt/media/image13.wmf" ContentType="image/x-wmf"/>
  <Override PartName="/ppt/media/image11.png" ContentType="image/png"/>
  <Override PartName="/ppt/media/Ricoche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E62-3099-43A6-BD0F-42FA24EE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CCC-B093-4D69-9372-A8A91D63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3ED-5E97-452F-AC7A-A3EB6F4E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656-22E2-4363-9723-BAB91D4E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3ED9-9A61-4827-A26F-EE554E6D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D1ED-99EE-4801-AF64-67D67F32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FC1F-4B26-4EA8-BF4F-33579604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2E8C-6028-4A88-BAF1-E011A0A2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A0C2-3213-472A-AB20-764B9CE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6DD7-4212-40C6-8BA1-63C8AB13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BBD0-0891-4259-A8A9-F873EEC2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954-4522-41F9-A4A7-FE333B62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5213-83CD-487B-8DD6-D9AFA10D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198E-33D1-40F7-B256-E48E4CD8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F677-4EA6-42E8-BDF9-39E84E64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B2D2-9CB6-4628-9A7D-FD0D7F55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09E4-0583-4DCB-B577-676C4F31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F61A-FDCF-4B37-8BED-BACA93F5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A498-D0A3-40BB-9C37-95E2C92E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FEB5-C711-461D-8589-8D88D26B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A397D-823A-4770-8E9F-D76B62F1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BB36-5176-400C-9FC0-38EBCD8A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F42-BFA3-4418-A828-A6400423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777B2-6E85-4BDC-BD03-48217EA5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C37E-711D-4537-BD57-D3ED61D1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90C8-29E9-41E9-AA40-4089ADD9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435C-6E2C-474E-9CC6-1018AF5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2A06-E255-4453-991D-6B40BDA5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CE29-3868-4688-8456-8D396561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7F41-CCE2-49B4-8857-BBBC7FD7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1D3B3-F65F-4F4D-8271-765549E9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C01AB-4D66-479B-B4B2-63553170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02CC8-F76E-46F9-A063-B9AF6E00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37C-7AF2-4F84-BCDB-89579E77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4C5A-DC2D-4A40-ADA4-7FD34B01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E1AE-E33C-4869-B633-FC89F002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B9FD-52BE-41F5-9DCB-FF05D32C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C8FFB-5E59-4DA1-8025-4B7C81EF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4A3FE-9374-4AD3-8F98-17779ECC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8BC2A-B37A-42BF-84C2-624482CB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00C2-6BBE-4204-A9E1-739F916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EE207-60AB-4185-A162-188A4811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979B4-6CAD-4FC6-A57E-164D363D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383-A245-42D4-BB5F-B383D0C7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18D-E067-4643-9A94-7B6143DD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52C-5559-425E-99A8-70516E51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254-D4F8-4D9F-9F09-ADD7962C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FDF-D2CF-469A-B33A-D74162E5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CE06-9719-4F7E-9AC6-494177DBFC2D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819B-63C7-422E-9155-3376A8839DEB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5E73-2714-4C89-904B-538F7F4AC931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909B-7E43-4F91-9B54-F29B5C4DADA9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audio" Target="../media/Ricochet.wav"/><Relationship Id="rId7" Type="http://schemas.openxmlformats.org/officeDocument/2006/relationships/audio" Target="../media/GunShot.wav"/><Relationship Id="rId8" Type="http://schemas.openxmlformats.org/officeDocument/2006/relationships/audio" Target="../media/Explode.wav"/><Relationship Id="rId9" Type="http://schemas.openxmlformats.org/officeDocument/2006/relationships/audio" Target="../media/Laser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…</a:t>
            </a: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the main purpose of a business is stated in a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0" spc="-1" strike="noStrike">
                <a:solidFill>
                  <a:srgbClr val="404040"/>
                </a:solidFill>
                <a:latin typeface="Trebuchet MS"/>
              </a:rPr>
              <a:t>Mission statement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Object 4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505320" cy="308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Aims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In business the main aims are usua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Survival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Profit maximisation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Growth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Object 3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7148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any businesses have some or all of the following aims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making a profi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goods and services to the local communit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surviv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expandin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maximising sa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improving quality of produc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improving quality of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highly competitive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charitable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voluntary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being environmentally friendl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s Ai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155700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Being the airline of first choice in key markets”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Object 4" descr=""/>
          <p:cNvPicPr/>
          <p:nvPr/>
        </p:nvPicPr>
        <p:blipFill>
          <a:blip r:embed="rId1"/>
          <a:stretch/>
        </p:blipFill>
        <p:spPr>
          <a:xfrm>
            <a:off x="2050920" y="4076640"/>
            <a:ext cx="3638520" cy="2428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49" name="Object 3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191120" cy="358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 are measurable..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404040"/>
                </a:solidFill>
                <a:latin typeface="Trebuchet MS"/>
              </a:rPr>
              <a:t>a business needs to identify specific practical targets it needs to accomplish in order to achieve its aims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Object 4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438280" cy="1992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914400" y="48006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ese are called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 are quantified..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So that success can be easily measured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Eg British Airways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ould have an objective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“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to increase sales of air tickets to business passengers by 5% a year in Europe”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blinds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5fcbef"/>
                </a:solidFill>
                <a:latin typeface="Trebuchet MS"/>
              </a:rPr>
              <a:t>Aims Vs Objectives</a:t>
            </a:r>
            <a:endParaRPr b="0" lang="en-US" sz="4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93280" y="2541600"/>
            <a:ext cx="3886200" cy="24717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Aims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are long te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more subjectiv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not easily measur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28880" y="2541600"/>
            <a:ext cx="3886200" cy="24717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Objectives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are short te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more objectiv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easily measur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600" spc="-1" strike="noStrike">
                <a:solidFill>
                  <a:srgbClr val="5fcbef"/>
                </a:solidFill>
                <a:latin typeface="Trebuchet MS"/>
              </a:rPr>
              <a:t>SMART</a:t>
            </a:r>
            <a:r>
              <a:rPr b="0" lang="en-GB" sz="54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en-GB" sz="6600" spc="-1" strike="noStrike">
                <a:solidFill>
                  <a:srgbClr val="5fcbef"/>
                </a:solidFill>
                <a:latin typeface="Trebuchet MS"/>
              </a:rPr>
              <a:t>OBJECTIVES</a:t>
            </a:r>
            <a:endParaRPr b="0" lang="en-US" sz="6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94920" y="2133720"/>
            <a:ext cx="6629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7f7f7f"/>
                </a:solidFill>
                <a:latin typeface="Trebuchet MS"/>
              </a:rPr>
              <a:t>          </a:t>
            </a:r>
            <a:r>
              <a:rPr b="0" lang="en-GB" sz="3300" spc="-1" strike="noStrike">
                <a:solidFill>
                  <a:srgbClr val="7f7f7f"/>
                </a:solidFill>
                <a:latin typeface="Trebuchet MS"/>
              </a:rPr>
              <a:t>Specific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Measurable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Agree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Realistic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           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Time constrained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5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6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685800" cy="58716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7" descr=""/>
          <p:cNvPicPr/>
          <p:nvPr/>
        </p:nvPicPr>
        <p:blipFill>
          <a:blip r:embed="rId4"/>
          <a:stretch/>
        </p:blipFill>
        <p:spPr>
          <a:xfrm>
            <a:off x="2971800" y="48006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8" descr=""/>
          <p:cNvPicPr/>
          <p:nvPr/>
        </p:nvPicPr>
        <p:blipFill>
          <a:blip r:embed="rId5"/>
          <a:stretch/>
        </p:blipFill>
        <p:spPr>
          <a:xfrm>
            <a:off x="2971800" y="5486400"/>
            <a:ext cx="685800" cy="58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Mini Challeng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33200" y="1700280"/>
            <a:ext cx="6140520" cy="20160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rebuchet MS"/>
              </a:rPr>
              <a:t>Write aims and objectives for your mini challen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rebuchet MS"/>
              </a:rPr>
              <a:t>Write a mission statement for your compan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826920" y="4365720"/>
            <a:ext cx="6553440" cy="119124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– YOURS OBJECTIVES MUST BE S.M.A.R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ssion statement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55280" y="13284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4000" spc="-1" strike="noStrike">
                <a:solidFill>
                  <a:srgbClr val="404040"/>
                </a:solidFill>
                <a:latin typeface="Trebuchet MS"/>
              </a:rPr>
              <a:t>by reading a mission statement you can usually tell what a business actually does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Object 4" descr=""/>
          <p:cNvPicPr/>
          <p:nvPr/>
        </p:nvPicPr>
        <p:blipFill>
          <a:blip r:embed="rId1"/>
          <a:stretch/>
        </p:blipFill>
        <p:spPr>
          <a:xfrm>
            <a:off x="3635280" y="4149720"/>
            <a:ext cx="175896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crosoft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70028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Bill Gates has said that Microsoft’s mission is…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taking the internet, combining it with great software and turning that into the most powerful tool of all time”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Object 4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9828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440" y="260280"/>
            <a:ext cx="3736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ssion statement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404040"/>
                </a:solidFill>
                <a:latin typeface="Trebuchet MS"/>
              </a:rPr>
              <a:t>You should be able to tell that Microsoft is involved with the internet, computers and software development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Object 5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3429000" cy="2247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4400" spc="-1" strike="noStrike">
                <a:solidFill>
                  <a:srgbClr val="404040"/>
                </a:solidFill>
                <a:latin typeface="Trebuchet MS"/>
              </a:rPr>
              <a:t>is “To be the undisputed leader in world travel”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rcRect l="0" t="13097" r="0" b="26867"/>
          <a:stretch/>
        </p:blipFill>
        <p:spPr>
          <a:xfrm>
            <a:off x="1547640" y="4437000"/>
            <a:ext cx="5002560" cy="2065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404040"/>
                </a:solidFill>
                <a:latin typeface="Trebuchet MS"/>
              </a:rPr>
              <a:t>...from this you should know that British Airways operates in the travel market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Object 6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42920" y="1981080"/>
            <a:ext cx="3810240" cy="4114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but it 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404040"/>
                </a:solidFill>
                <a:latin typeface="Trebuchet MS"/>
              </a:rPr>
              <a:t>not very cle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about which type of travel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(except for the fact there is the word ‘Airways’ in the Company name!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Object 6" descr=""/>
          <p:cNvPicPr/>
          <p:nvPr/>
        </p:nvPicPr>
        <p:blipFill>
          <a:blip r:embed="rId1"/>
          <a:stretch/>
        </p:blipFill>
        <p:spPr>
          <a:xfrm>
            <a:off x="6226200" y="49320"/>
            <a:ext cx="2895480" cy="193176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7" descr=""/>
          <p:cNvPicPr/>
          <p:nvPr/>
        </p:nvPicPr>
        <p:blipFill>
          <a:blip r:embed="rId2"/>
          <a:stretch/>
        </p:blipFill>
        <p:spPr>
          <a:xfrm>
            <a:off x="7164360" y="2070000"/>
            <a:ext cx="1182600" cy="271008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8" descr=""/>
          <p:cNvPicPr/>
          <p:nvPr/>
        </p:nvPicPr>
        <p:blipFill>
          <a:blip r:embed="rId3"/>
          <a:stretch/>
        </p:blipFill>
        <p:spPr>
          <a:xfrm>
            <a:off x="6226200" y="4869000"/>
            <a:ext cx="2895480" cy="190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5564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…</a:t>
            </a: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it is one thing to state a mission or a purpose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 u="sng">
                <a:solidFill>
                  <a:srgbClr val="7f7f7f"/>
                </a:solidFill>
                <a:uFillTx/>
                <a:latin typeface="Trebuchet MS"/>
              </a:rPr>
              <a:t>but</a:t>
            </a: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 another to achieve it.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Object 4" descr=""/>
          <p:cNvPicPr/>
          <p:nvPr/>
        </p:nvPicPr>
        <p:blipFill>
          <a:blip r:embed="rId1"/>
          <a:stretch/>
        </p:blipFill>
        <p:spPr>
          <a:xfrm>
            <a:off x="2843280" y="3933720"/>
            <a:ext cx="2514600" cy="260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73404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5fcbef"/>
                </a:solidFill>
                <a:latin typeface="Trebuchet MS"/>
              </a:rPr>
              <a:t>To achieve its purpose, a business must have….</a:t>
            </a:r>
            <a:endParaRPr b="0" lang="en-US" sz="4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10920" y="3284280"/>
            <a:ext cx="6476760" cy="2971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7f7f7f"/>
                </a:solidFill>
                <a:latin typeface="Trebuchet MS"/>
              </a:rPr>
              <a:t>Aims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the goals the business wants to achiev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7f7f7f"/>
                </a:solidFill>
                <a:latin typeface="Trebuchet MS"/>
              </a:rPr>
              <a:t>Objectives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practical steps to achieve the goa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- usually quantified (measurabl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ver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0:31:35Z</dcterms:created>
  <dc:creator>Research Machines plc</dc:creator>
  <dc:description/>
  <dc:language>en-US</dc:language>
  <cp:lastModifiedBy> </cp:lastModifiedBy>
  <dcterms:modified xsi:type="dcterms:W3CDTF">2015-08-27T12:25:20Z</dcterms:modified>
  <cp:revision>9</cp:revision>
  <dc:subject/>
  <dc:title>The Aims and Objectives of Businesses</dc:title>
</cp:coreProperties>
</file>